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334D-0CB2-461B-B785-CC91B1D6B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6816-031D-4220-A200-9BEF427C8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B2AB-1A6B-4983-9C76-0088855B3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18E8-76C9-4316-B4DB-9858549E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AF86-287C-41EF-A20F-51EB7D3B7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7472-3C4B-415F-AF62-EEE25B82F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B637-D204-48FD-89F7-678ADAFD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B2C5-15F9-43A6-9A12-840BB69A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9818-235F-47AB-9106-403FF9EF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F4E3-AD53-40A9-95AF-5E4F2B83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7DA2-624C-4B5E-BF13-44D47102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63A4-50CF-4F2A-863C-F7A0F6AD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A7A7-0DA3-41D9-9D68-00B9D68F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D272-39EC-4679-9C04-1B8A2A27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AC3A-2467-474C-B780-DE7C7D483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oureen Sh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Noureen S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Noureen Sher (1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Noureen Sher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Noureen Sher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ra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i nombre es Noureen Sher. Yo soy de los Estados Unidos. Yo amo la música y el canto. Tengo trece años. Yo amo One Direction, Ed Sheeran, Little Mix, and Taylor Swift. </a:t>
            </a:r>
            <a:r>
              <a:rPr b="0" lang="en-US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Yo soy extrovertida y graciosa. Yo no muerden, add me! </a:t>
            </a:r>
            <a:r>
              <a:rPr b="0" lang="en-US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7" descr="Photo on 2011-10-21 at 13.53 #2.jpg"/>
          <p:cNvPicPr/>
          <p:nvPr/>
        </p:nvPicPr>
        <p:blipFill>
          <a:blip r:embed="rId1"/>
          <a:stretch/>
        </p:blipFill>
        <p:spPr>
          <a:xfrm>
            <a:off x="36360" y="433440"/>
            <a:ext cx="1957680" cy="2060640"/>
          </a:xfrm>
          <a:prstGeom prst="rect">
            <a:avLst/>
          </a:prstGeom>
          <a:ln w="0">
            <a:noFill/>
          </a:ln>
        </p:spPr>
      </p:pic>
      <p:sp>
        <p:nvSpPr>
          <p:cNvPr id="84" name="TextBox 62"/>
          <p:cNvSpPr/>
          <p:nvPr/>
        </p:nvSpPr>
        <p:spPr>
          <a:xfrm>
            <a:off x="762120" y="57150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en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ia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6"/>
          <p:cNvSpPr/>
          <p:nvPr/>
        </p:nvSpPr>
        <p:spPr>
          <a:xfrm flipH="1">
            <a:off x="1371600" y="571500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d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8" descr="Photo on 2011-10-21 at 13.53 #2.jpg"/>
          <p:cNvPicPr/>
          <p:nvPr/>
        </p:nvPicPr>
        <p:blipFill>
          <a:blip r:embed="rId2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0" descr="Photo on 2011-10-21 at 13.39 #2.jpg"/>
          <p:cNvPicPr/>
          <p:nvPr/>
        </p:nvPicPr>
        <p:blipFill>
          <a:blip r:embed="rId3"/>
          <a:stretch/>
        </p:blipFill>
        <p:spPr>
          <a:xfrm>
            <a:off x="2109960" y="3273480"/>
            <a:ext cx="554040" cy="792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4" descr="Photo on 2011-10-21 at 13.53 #2.jpg"/>
          <p:cNvPicPr/>
          <p:nvPr/>
        </p:nvPicPr>
        <p:blipFill>
          <a:blip r:embed="rId4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la Noureen! ¿Quieres ir de compras en 1D World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   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adia Uddin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8" descr="Photo on 2011-10-21 at 13.46.jpg"/>
          <p:cNvPicPr/>
          <p:nvPr/>
        </p:nvPicPr>
        <p:blipFill>
          <a:blip r:embed="rId5"/>
          <a:stretch/>
        </p:blipFill>
        <p:spPr>
          <a:xfrm>
            <a:off x="2036880" y="4492800"/>
            <a:ext cx="650880" cy="9442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343434"/>
                </a:solidFill>
                <a:latin typeface="Arial"/>
              </a:rPr>
              <a:t>No puedo esperar para mi cumpleaños!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Noure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Diciembre 3 de 2012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oureen Sh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9" descr="Photo on 2011-10-21 at 13.53 #2.jpg"/>
          <p:cNvPicPr/>
          <p:nvPr/>
        </p:nvPicPr>
        <p:blipFill>
          <a:blip r:embed="rId6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2" descr="Photo on 2011-10-21 at 13.46.jpg"/>
          <p:cNvPicPr/>
          <p:nvPr/>
        </p:nvPicPr>
        <p:blipFill>
          <a:blip r:embed="rId7"/>
          <a:stretch/>
        </p:blipFill>
        <p:spPr>
          <a:xfrm>
            <a:off x="188424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óla! Cómo están mis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2"/>
          <p:cNvSpPr/>
          <p:nvPr/>
        </p:nvSpPr>
        <p:spPr>
          <a:xfrm>
            <a:off x="685800" y="632448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hfoo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3:55:02Z</dcterms:created>
  <dc:creator>FriscoISD</dc:creator>
  <dc:description/>
  <dc:language>en-US</dc:language>
  <cp:lastModifiedBy>NYCDOE</cp:lastModifiedBy>
  <dcterms:modified xsi:type="dcterms:W3CDTF">2012-12-05T14:10:55Z</dcterms:modified>
  <cp:revision>101</cp:revision>
  <dc:subject/>
  <dc:title>Profile</dc:title>
</cp:coreProperties>
</file>